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B3E-AF6E-4A8A-9DE9-90610481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93B-B9D2-4F44-A3A8-04304222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197-ED9E-4C2A-BFFE-A3D45FF4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618-E72A-4361-8AA2-87E5CBD0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ADC-8EE0-4D87-B585-FE0D4A6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027-C045-43CB-8406-3481B770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9A6-E6B6-4D2B-AEF3-6C42D815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D9B-D406-454D-AA65-EBADB709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3E7-7622-4F4D-A956-415C7876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281-8255-4D83-9125-D4A52A8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1FD-97D2-463B-AE24-D07D5D5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0DB-552C-4D82-8C71-6827D87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188F-C110-4B23-97E2-594024AF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me.com/news/mia/56280/photo/7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458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08064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255840" cy="499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MIA4-Ravi Thiagaraja"/>
          <p:cNvPicPr/>
          <p:nvPr/>
        </p:nvPicPr>
        <p:blipFill>
          <a:blip r:embed="rId2"/>
          <a:stretch/>
        </p:blipFill>
        <p:spPr>
          <a:xfrm>
            <a:off x="5148360" y="1052640"/>
            <a:ext cx="33494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884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98640" y="189000"/>
            <a:ext cx="5288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160200"/>
            <a:ext cx="51516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64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3756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98848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Photo: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0"/>
            <a:ext cx="559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37:16Z</dcterms:created>
  <dc:creator>Administrator</dc:creator>
  <dc:description/>
  <dc:language>en-US</dc:language>
  <cp:lastModifiedBy>Administrator</cp:lastModifiedBy>
  <dcterms:modified xsi:type="dcterms:W3CDTF">2011-05-16T16:10:14Z</dcterms:modified>
  <cp:revision>3</cp:revision>
  <dc:subject/>
  <dc:title>Slide 1</dc:title>
</cp:coreProperties>
</file>